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959-883A-49F0-9740-8C220AB2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FB8-F918-4E90-B0EC-DDE01C02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E7E-0717-449D-A26C-F20F2E52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987-23D3-49B9-A1F4-0B697079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C00B-74DB-4DD2-9F61-5F9B1C25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0578-C8CA-4D1B-845F-7BA166F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581D-0376-4423-A5A9-89C8720C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784F-86C7-45F5-B727-8062E014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B75-F5B4-4BD5-AE6A-B246FC09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08C0-D212-48BC-964E-020EED45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C359-34DA-4612-A592-2F1310B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53F-6952-4FB3-AF63-6B65E11D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4677-0B68-4211-BDC8-556DAA4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6DCF-63E9-4D53-8C29-B96139F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F5F4-060F-433D-AF6D-9DE350DF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5CB9-E0A7-4D02-B963-94123480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AC0D-C827-4900-A88A-A540331D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091-D60F-47FB-A7D3-F27575B9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7C2-FF7A-481B-B9D7-794D1192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97F-96BD-47E7-B488-539A6D4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A17-49D5-4E53-86D5-4329A603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530-1976-4976-9912-CA00F67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2F7-00F8-4D77-9111-D2518AC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A8B-809E-434D-925A-A44BAF7F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2632-75DC-4325-A6DA-9D4756D4C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92AF-E573-4CEF-A78D-5ED3A8478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eat Britain is Part of the United Sta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History Books Have Lied To You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evid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the Conqueror”, as he is called, was actually an out-of-work dinner-theater actor from Detroit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invaders” were called “Normans”, but they came from Fran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anyone from France win a battle (LOL)?!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35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these are all lies and we can’t believe anything the history books say, then Great Britain is part of the United States.  THERE IS NO OTHER EXPLANATION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Fiendish Dece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have been told that Great Britain is an independent country somewhere in Europe or As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I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Britain is and always has been a part of the UNITED STATES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consistenc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believe me?  Look at all the inconsistenci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 is sometimes called England, sometimes called the UK, and sometimes called Finland.  WHY CAN’T THEY MAKE UP THEIR MINDS?!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 is supposed to be part of Europe, BUT IT’S NOT EVEN CONNECT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vid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while, there is PLENTY of evidence that GB is actually part of the US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eople there speak American, although not very w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flag has red and blue in it, just like the American fla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re RIGHT NEXT TO THE ATLANTIC OCEAN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-called “National Anthem” of GB is really “My Country ‘Tis of Thee” with the WRONG WOR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History of L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we’ve been told about Great Britain is a li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a plot by Neo-Nazi Zionist Communist Globalists to push their NNZCG agenda?!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PROFITING FROM THE SALE OF THESE BLATANTLY FALSE HISTORY BOOKS?!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History of L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dly Great Britain’s history began at the Battle of Hastings in 1066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ID RESEARCH!!! DID YOU?!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this is BLATANTLY fal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direct evidence that the Battle of Hastings EVER OCCURR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History of L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is obvious forg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5791320" cy="3092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erpetrators of this fraud would have us believe that the three tiny ships near the top of the picture are flying – NINE HUNDRED YEARS before the Wright Brothers!!  Are they MAGIC SHIPS (LOL)?!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History of L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6629400" cy="384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81080" y="2743200"/>
            <a:ext cx="2286000" cy="703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ly unrealistic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52680"/>
            <a:ext cx="1447920" cy="838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952880"/>
            <a:ext cx="3200400" cy="825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en a real animal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37920" y="5181480"/>
            <a:ext cx="2057400" cy="228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2209680"/>
            <a:ext cx="2667240" cy="916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y didn’t have skywriting back then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952520" y="3048120"/>
            <a:ext cx="381240" cy="228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L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343240"/>
            <a:ext cx="7772400" cy="3371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5257800"/>
            <a:ext cx="2666880" cy="642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rse’s legs are two different colo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86000" y="4876920"/>
            <a:ext cx="7621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590920"/>
            <a:ext cx="2210040" cy="642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eyes! How did they se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9680" y="2895480"/>
            <a:ext cx="152424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5257800"/>
            <a:ext cx="3047760" cy="642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one’s head is this small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715000" y="3580920"/>
            <a:ext cx="990720" cy="1676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7:53:28Z</dcterms:created>
  <dc:creator>John Reese</dc:creator>
  <dc:description/>
  <dc:language>en-US</dc:language>
  <cp:lastModifiedBy>John Reese</cp:lastModifiedBy>
  <dcterms:modified xsi:type="dcterms:W3CDTF">2006-09-20T18:28:52Z</dcterms:modified>
  <cp:revision>2</cp:revision>
  <dc:subject/>
  <dc:title>Great Britain is Part of the United States</dc:title>
</cp:coreProperties>
</file>